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866-48E2-4898-8E40-8863A75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134-8065-4428-A9ED-19E359A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3B6-D066-47CD-83FB-047A8A04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778-CBA9-41AB-90FD-02C9E155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CB3-D471-49C2-BA74-33F072D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459-4D7C-4672-8B89-EC561C32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5A0-360F-4561-9009-2597D4F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332-A228-4BF1-B89F-C0CBE25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F60-156B-42A4-9812-3E9B8200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C23-B26C-41CF-AB3F-3877820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DC3-26B9-49CD-B843-C2B80FD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4FB-1B93-4C40-A08B-5464A84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04D-B384-4B54-9D82-CDCA62BF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2784600"/>
            <a:ext cx="700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NTIFIERS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9120"/>
            <a:ext cx="8820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s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c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nombres contables en plural:</a:t>
            </a:r>
            <a:br>
              <a:rPr sz="3200"/>
            </a:b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I've borrowed some books from the library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utiliza también con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There is some milk in the fridge.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en preguntas cuando esperam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una respuesta posi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Por ejemplo, cuando se ofrece comida o bebida:</a:t>
            </a:r>
            <a:br>
              <a:rPr sz="3200"/>
            </a:b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Would you like some ice-cream? Yes, ple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ciones negativas e interrogativ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nto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contables como incon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n't any glasse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there any glasses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isn't any water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 there any water on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much / a lo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tiliza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much pocket money do you get every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inglés hablado 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tiliza solo 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ciones interrogativas y negativ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habla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irmativa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sa 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a lo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alucía exports a lot of oliv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20640"/>
            <a:ext cx="882000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many / a lo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o se pueden utilizar co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ustantivos contables en plur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y tourists come to Spain in Sum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66"/>
                </a:solidFill>
                <a:latin typeface="Arial"/>
              </a:rPr>
              <a:t>little / a little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o se utilizan c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ignifica poca cantidad. A menudo le acompaña ve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I think you pay (very) little attention to my explanation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c66"/>
                </a:solidFill>
                <a:latin typeface="Arial"/>
              </a:rPr>
              <a:t>a littl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iene una connotación positiva, signfica que hay algo aunque sea po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Work a little every day and you'll succeed with your exam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909720"/>
            <a:ext cx="86407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few  / a f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n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contables en pl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few CD's in the record sh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 que no hay cantidad suficiente, pero si decimos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amos una connotación positiva a la información, es decir, que aunque pocos, hay algu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e has a few friends in her new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9900"/>
                </a:solidFill>
                <a:latin typeface="Arial"/>
              </a:rPr>
              <a:t>¿CUÁNTO/S?</a:t>
            </a:r>
            <a:br>
              <a:rPr sz="4000"/>
            </a:br>
            <a:br>
              <a:rPr sz="4000"/>
            </a:b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OMBRES INCONT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OMBRES CONTABL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How much 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ow many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9:16Z</dcterms:created>
  <dc:creator>Profesor</dc:creator>
  <dc:description/>
  <dc:language>en-US</dc:language>
  <cp:lastModifiedBy>IESFGL</cp:lastModifiedBy>
  <dcterms:modified xsi:type="dcterms:W3CDTF">2010-04-12T08:52:48Z</dcterms:modified>
  <cp:revision>3</cp:revision>
  <dc:subject/>
  <dc:title>Diapositiva 1</dc:title>
</cp:coreProperties>
</file>